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08C-EF12-4308-BC72-4F36563F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E00-3768-419D-BB20-2FD07AF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034-362C-438B-95F1-06E10CFD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450-640D-402B-83EB-6B4EDB6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F1F-C3DE-430F-B7FD-89A5453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B7C-27D1-4009-8D31-4D49297D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DD8-EFB9-400F-9184-0C61EEB5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195-E1DF-4BE4-B75E-4B660512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898-D025-4A62-8B85-754A138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C69-EF97-4458-8FC4-422E250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55D-219F-4439-A1D6-A90DD50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49E-8DF0-4932-A291-96E0A8E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E95-4323-4D8B-8474-E32816925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oplite4thcentu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Brandon Duckwort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133720" y="11430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ISLPT144\Local Settings\Temporary Internet Files\Content.IE5\T71HZ1RE\MC900367582[1].wmf"/>
          <p:cNvPicPr/>
          <p:nvPr/>
        </p:nvPicPr>
        <p:blipFill>
          <a:blip r:embed="rId1"/>
          <a:stretch/>
        </p:blipFill>
        <p:spPr>
          <a:xfrm>
            <a:off x="1676520" y="2513160"/>
            <a:ext cx="4343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143000" y="1905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C:\Documents and Settings\ISLPT144\Local Settings\Temporary Internet Files\Content.IE5\H44NSNGF\MP900432940[1].jpg"/>
          <p:cNvPicPr/>
          <p:nvPr/>
        </p:nvPicPr>
        <p:blipFill>
          <a:blip r:embed="rId1"/>
          <a:stretch/>
        </p:blipFill>
        <p:spPr>
          <a:xfrm>
            <a:off x="1523880" y="2543040"/>
            <a:ext cx="6858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066680" y="1523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images (2).jpg"/>
          <p:cNvPicPr/>
          <p:nvPr/>
        </p:nvPicPr>
        <p:blipFill>
          <a:blip r:embed="rId1"/>
          <a:stretch/>
        </p:blipFill>
        <p:spPr>
          <a:xfrm>
            <a:off x="990720" y="2076480"/>
            <a:ext cx="6445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images (3).jpg"/>
          <p:cNvPicPr/>
          <p:nvPr/>
        </p:nvPicPr>
        <p:blipFill>
          <a:blip r:embed="rId1"/>
          <a:stretch/>
        </p:blipFill>
        <p:spPr>
          <a:xfrm>
            <a:off x="2743200" y="2457360"/>
            <a:ext cx="33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3716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ISLPT144\Local Settings\Temporary Internet Files\Content.IE5\MX0IGFH4\MP900442538[1].jpg"/>
          <p:cNvPicPr/>
          <p:nvPr/>
        </p:nvPicPr>
        <p:blipFill>
          <a:blip r:embed="rId1"/>
          <a:stretch/>
        </p:blipFill>
        <p:spPr>
          <a:xfrm>
            <a:off x="1371600" y="2519280"/>
            <a:ext cx="65260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C:\Documents and Settings\ISLPT144\Local Settings\Temporary Internet Files\Content.IE5\T71HZ1RE\MP900405128[1]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ownload.jpg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Documents and Settings\ISLPT144\Local Settings\Temporary Internet Files\Content.IE5\OZWQY7OR\MP900427688[1].jpg"/>
          <p:cNvPicPr/>
          <p:nvPr/>
        </p:nvPicPr>
        <p:blipFill>
          <a:blip r:embed="rId1"/>
          <a:stretch/>
        </p:blipFill>
        <p:spPr>
          <a:xfrm>
            <a:off x="3581280" y="2819520"/>
            <a:ext cx="556272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295280" y="1295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371600" y="1371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ISLPT144\Local Settings\Temporary Internet Files\Content.IE5\H44NSNGF\MP900448536[1].jpg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676520" y="8380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who live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ISLPT144\Local Settings\Temporary Internet Files\Content.IE5\H44NSNGF\MP900443910[1].jpg"/>
          <p:cNvPicPr/>
          <p:nvPr/>
        </p:nvPicPr>
        <p:blipFill>
          <a:blip r:embed="rId1"/>
          <a:stretch/>
        </p:blipFill>
        <p:spPr>
          <a:xfrm>
            <a:off x="990720" y="2243160"/>
            <a:ext cx="6933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9144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of government where  people vote to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ISLPT144\Local Settings\Temporary Internet Files\Content.IE5\OZWQY7OR\MC900149508[1].wmf"/>
          <p:cNvPicPr/>
          <p:nvPr/>
        </p:nvPicPr>
        <p:blipFill>
          <a:blip r:embed="rId1"/>
          <a:stretch/>
        </p:blipFill>
        <p:spPr>
          <a:xfrm>
            <a:off x="1295280" y="2762280"/>
            <a:ext cx="62485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0" y="144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ar evidence and  make  decisions in a court of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ISLPT144\Local Settings\Temporary Internet Files\Content.IE5\T71HZ1RE\MC900287179[1].wmf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mages (1).jpg"/>
          <p:cNvPicPr/>
          <p:nvPr/>
        </p:nvPicPr>
        <p:blipFill>
          <a:blip r:embed="rId1"/>
          <a:stretch/>
        </p:blipFill>
        <p:spPr>
          <a:xfrm>
            <a:off x="2057400" y="2438280"/>
            <a:ext cx="483228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048120" y="914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eek cit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33:30Z</dcterms:modified>
  <cp:revision>96</cp:revision>
  <dc:subject/>
  <dc:title>Ancient Greece</dc:title>
</cp:coreProperties>
</file>